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21B-7F90-4F22-B8E4-4F57511C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8B28-24BB-4025-B304-440C2DB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B1A-0075-4423-BDEF-B2B9D15D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86C-2C5A-42B3-A280-A94C9680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147-0DDC-4C6D-BD9E-37FE23C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0178-A134-4B39-8F15-5B73038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3AB-EB00-4A01-9BC2-312A283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255-11A1-4708-A300-4B706DF3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32E-F070-4703-9BAA-6D15908B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9FA-8C14-4F7E-906E-2C6A28B8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E9E-E924-4108-BE9F-64F5EEA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4CE-0752-46CB-9FB5-C79B317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7DA-409F-4A41-8A39-D17BF5FAE22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8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28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Octo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ogressive Overlo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43828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an we progress our programm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an we ensure our body is experiencing overload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evers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90512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will happen over time if training end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implications does this have on long term plan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odifying/Adapting a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905120"/>
            <a:ext cx="868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y might we need to do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ould we do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Monitoring Trai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10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It is vital that I monitor training during a programme of work 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heck that I am working at the correct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heck that I am progressing training over ti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nsure that I am correctly following the program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Get indications that the programme is too challenging (possibly leading to overtraining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Get indications that the programme is not challenging enough (no improvements to fitness would be made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Monitoring Trai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9000"/>
            <a:ext cx="914400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I can monitor training in a number of ways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raining diar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-te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Self assess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Peer assessmen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eacher/coach feedback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Take notes on each of these method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Prel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060640"/>
            <a:ext cx="802800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Wednesday 3</a:t>
            </a:r>
            <a:r>
              <a:rPr b="1" lang="en-GB" sz="40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 February 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period 3 and 4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omic Sans MS"/>
              </a:rPr>
              <a:t>Supported Stu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133720"/>
            <a:ext cx="85341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Answer the following 2 questions and study for your end of block test (Wednesday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 Novemb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I will hold a revision session tomorrow after school for any interested pupils in RE 2 (3.30 – 4.30pm)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 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44640"/>
            <a:ext cx="85341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1) Discuss how you applied the principles of training when planning a programme to meet your identified fitness needs.  (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2) Having monitored your level of fitness during your training programme you will have made changes.  Explain why these changes were necessary.  Give examples to support your answer.  (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81080"/>
            <a:ext cx="8153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By the end of this lesson you should all be able t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escribe a programme of work to improve Cardio-Respiratory Endurance in hocke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xplain how you have considered the principles of training when designing the programme of work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uggest how you could adapt or modify a programme and explain wh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escribe how you monitor your progres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8153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rogramme of Wor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mplete the programme on page 23 of your course not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50920" y="260280"/>
          <a:ext cx="8642160" cy="6346800"/>
        </p:xfrm>
        <a:graphic>
          <a:graphicData uri="http://schemas.openxmlformats.org/drawingml/2006/table">
            <a:tbl>
              <a:tblPr/>
              <a:tblGrid>
                <a:gridCol w="869760"/>
                <a:gridCol w="2733840"/>
                <a:gridCol w="2289240"/>
                <a:gridCol w="1374480"/>
                <a:gridCol w="137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3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4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1 &amp; 2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0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0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s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3 &amp; 4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s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ks 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5 &amp; 6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30 minutes continuous running at 70-85% heart rate maximum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Warm Up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25 minute fartlek sessio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mall sided gam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Cool down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1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Repea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Comic Sans MS"/>
                          <a:ea typeface="Times New Roman"/>
                        </a:rPr>
                        <a:t>session 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inciples of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9890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ask 2 - Complete the worksheet to explain how we have considered the principles of training when designing this programme of work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cif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00200"/>
            <a:ext cx="8686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 the method of training appropriate for the aspect of fitness we want to work on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 it appropriate for the activ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req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37000"/>
            <a:ext cx="86868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factors need to be considered her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fit in other types of trai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ten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05120"/>
            <a:ext cx="868680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 we have any information regarding how intense our programme should b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monitor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uration (Ti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905120"/>
            <a:ext cx="8686800" cy="26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 we have any information regarding how long our programme should b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do we monitor thi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0-28T08:50:09Z</dcterms:modified>
  <cp:revision>49</cp:revision>
  <dc:subject/>
  <dc:title>Intermediate PE</dc:title>
</cp:coreProperties>
</file>